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BEF-1773-49C4-86F6-EFB28B13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A77-67D5-4E9C-B76A-817E0B79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014-6A11-4568-AAC6-172FF2E1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3FA-369B-493E-B0BC-87EE8817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402-2F0B-4EA6-8393-0BFF7526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25E-665B-4DC9-97C8-1C923E89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574-072C-456E-BEAB-29A42FF5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2C3-BA73-4154-ABA9-4881A598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DE0-E16B-49D7-BD52-FC06BE5A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A09-C6D1-4F27-B635-FBCA3E9B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EA3-BB83-4F31-BE99-73A74802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34E-A239-4A16-AE89-D27ADBFF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B613-4F47-4C5C-A052-04AE3C75D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gress Report of 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Nest Develo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liminary serial offline test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parallel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y to do inlin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7772400" y="6477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.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ing N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Moving-nest grid.gif"/>
          <p:cNvPicPr/>
          <p:nvPr/>
        </p:nvPicPr>
        <p:blipFill>
          <a:blip r:embed="rId1"/>
          <a:stretch/>
        </p:blipFill>
        <p:spPr>
          <a:xfrm>
            <a:off x="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7772400" y="6477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.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5715000" y="1523880"/>
            <a:ext cx="32004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v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point at mass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gning at mass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6"/>
          <p:cNvCxnSpPr/>
          <p:nvPr/>
        </p:nvCxnSpPr>
        <p:spPr>
          <a:xfrm flipH="1" flipV="1">
            <a:off x="2208960" y="3123360"/>
            <a:ext cx="305640" cy="305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sm"/>
          </a:ln>
        </p:spPr>
      </p:cxnSp>
      <p:cxnSp>
        <p:nvCxnSpPr>
          <p:cNvPr id="49" name="Straight Arrow Connector 9"/>
          <p:cNvCxnSpPr/>
          <p:nvPr/>
        </p:nvCxnSpPr>
        <p:spPr>
          <a:xfrm flipV="1">
            <a:off x="2362320" y="2666160"/>
            <a:ext cx="305280" cy="305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sm"/>
          </a:ln>
        </p:spPr>
      </p:cxnSp>
      <p:sp>
        <p:nvSpPr>
          <p:cNvPr id="50" name="TextBox 10"/>
          <p:cNvSpPr/>
          <p:nvPr/>
        </p:nvSpPr>
        <p:spPr>
          <a:xfrm>
            <a:off x="5562720" y="5410080"/>
            <a:ext cx="1676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9:00:00Z</dcterms:created>
  <dc:creator>xzhang</dc:creator>
  <dc:description/>
  <dc:language>en-US</dc:language>
  <cp:lastModifiedBy>gopal</cp:lastModifiedBy>
  <dcterms:modified xsi:type="dcterms:W3CDTF">2009-09-16T22:17:16Z</dcterms:modified>
  <cp:revision>12</cp:revision>
  <dc:subject/>
  <dc:title>Progress Report of 3rd Nest</dc:title>
</cp:coreProperties>
</file>